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238F5-7823-4023-BEE7-7A3233B1A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A89E2-B217-46D1-B956-3A184610D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ED7BF-2907-4A05-B85F-D26CAB2B7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31624-49DC-4DF3-9933-95C91DA90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A7943-F2AD-40B2-8C65-857C33527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09D48-95E4-4C66-B210-95068F315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040A2-9B66-49AB-8474-A0B1AC44F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BA327-666C-43FC-9838-50BFF2AE2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0E976-8CE8-4FD3-A3B3-082F3AE2F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3E695-5096-48EB-8C46-DF0A0B315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5CAA4-6B0F-4D27-B91F-39E0E53E2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88ED9-36F9-41E4-A056-78CDE8B89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F1F7B-392F-48A2-AA9D-1F9C975DE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7B129-E803-4CFF-838B-D9788F940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5D452-F2F5-42EE-AE1A-17497ACBA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780FB-13FA-426B-89D3-9B048CCF0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76BB7-BF1A-43EF-B80A-39369F64D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955B8-3098-415C-B52C-32A52ABCB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587AF-2C8E-4D43-9218-ABE3DCE1A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4D94F-7C73-4FCA-AEF8-E2507FBA6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EB2AB-5E1D-40F8-BA49-F9E01FCA9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984CC-A938-46FB-989B-0D3722790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94CC4-6B71-4772-8A56-E1EBC3489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B0000-7C45-477C-B498-4472FE20E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2BEF-AD31-42B8-8731-C4146AF9C796}"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D799-D413-4355-B18E-32299B931B4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urious Incident of the Dog in the Night-Time</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Reid Peacock</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yan Higginbotham</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illiam Hamric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did Christopher not like his train ticke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was half yellow.</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was Christopher looking for when he found the letters from his mom, and where was h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as in his dad’s room looking for his boo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unique about the numbering of the chapter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prime number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Christopher got scared at the train station, what did he do to calm himself dow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orked on some math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kind of pet did Christopher have?  What was his na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rat named Tob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racter Descriptions</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ea typeface="Times New Roman"/>
              </a:rPr>
              <a:t>Christopher John Francis Boone</a:t>
            </a:r>
            <a:r>
              <a:rPr b="0" lang="en-US" sz="3200" spc="-1" strike="noStrike">
                <a:solidFill>
                  <a:srgbClr val="ffffcc"/>
                </a:solidFill>
                <a:latin typeface="Times New Roman"/>
                <a:ea typeface="Times New Roman"/>
              </a:rPr>
              <a:t> – The book’s narrator, Christopher is fifteen years old, gifted in mathematics, and has Asperger's Syndrome, a high-functioning form of autism.  He lives at 36 Randolph Street with his father.</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o came up to Christopher in the train sta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olice offic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two colors does Christopher hate and wh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dislikes yellow, because yellow reminds him of custard, bananas, double yellow lines, yellow fever, yellow flowers, and sweet corn.  He dislikes brown because it reminds him of dirt, gravy, poo, wood, and Melissa Brown.</a:t>
            </a:r>
            <a:endParaRPr b="0" lang="en-US" sz="3200" spc="-1" strike="noStrike">
              <a:solidFill>
                <a:srgbClr val="ffffcc"/>
              </a:solidFill>
              <a:latin typeface="Times New Roman"/>
            </a:endParaRPr>
          </a:p>
        </p:txBody>
      </p:sp>
      <p:pic>
        <p:nvPicPr>
          <p:cNvPr id="138" name="url" descr=""/>
          <p:cNvPicPr/>
          <p:nvPr/>
        </p:nvPicPr>
        <p:blipFill>
          <a:blip r:embed="rId1"/>
          <a:stretch/>
        </p:blipFill>
        <p:spPr>
          <a:xfrm>
            <a:off x="4572000" y="4572000"/>
            <a:ext cx="1871640" cy="2286000"/>
          </a:xfrm>
          <a:prstGeom prst="rect">
            <a:avLst/>
          </a:prstGeom>
          <a:ln w="9360">
            <a:solidFill>
              <a:srgbClr val="ffffcc"/>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o killed Wellingt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ristopher's 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does Christopher think he can do anyth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lved the mystery of who killed Wellington.</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nd his mother.</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as brave.</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rote a boo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Good luck on the test!</a:t>
            </a:r>
            <a:endParaRPr b="0" i="1" lang="en-US" sz="44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pic>
        <p:nvPicPr>
          <p:cNvPr id="149" name="stress" descr=""/>
          <p:cNvPicPr/>
          <p:nvPr/>
        </p:nvPicPr>
        <p:blipFill>
          <a:blip r:embed="rId1"/>
          <a:stretch/>
        </p:blipFill>
        <p:spPr>
          <a:xfrm>
            <a:off x="2514600" y="2209680"/>
            <a:ext cx="4248000" cy="3584520"/>
          </a:xfrm>
          <a:prstGeom prst="rect">
            <a:avLst/>
          </a:prstGeom>
          <a:ln w="57240">
            <a:solidFill>
              <a:srgbClr val="ffffcc"/>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racter Descriptions</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6483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Ed Boone</a:t>
            </a:r>
            <a:r>
              <a:rPr b="0" lang="en-US" sz="3200" spc="-1" strike="noStrike">
                <a:solidFill>
                  <a:srgbClr val="ffffcc"/>
                </a:solidFill>
                <a:latin typeface="Times New Roman"/>
              </a:rPr>
              <a:t> – Christopher’s father, who owns and runs a heating maintenance and boiler repair busines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Judy Boone</a:t>
            </a:r>
            <a:r>
              <a:rPr b="0" lang="en-US" sz="3200" spc="-1" strike="noStrike">
                <a:solidFill>
                  <a:srgbClr val="ffffcc"/>
                </a:solidFill>
                <a:latin typeface="Times New Roman"/>
              </a:rPr>
              <a:t> - Christopher’s mother, who Ed told Christopher died two years ago when she actually moved to London with her lover, Roger Shea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Toby</a:t>
            </a:r>
            <a:r>
              <a:rPr b="0" lang="en-US" sz="3200" spc="-1" strike="noStrike">
                <a:solidFill>
                  <a:srgbClr val="ffffcc"/>
                </a:solidFill>
                <a:latin typeface="Times New Roman"/>
              </a:rPr>
              <a:t> – Christopher’s pet r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racter Description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Mrs. Alexander</a:t>
            </a:r>
            <a:r>
              <a:rPr b="0" lang="en-US" sz="3200" spc="-1" strike="noStrike">
                <a:solidFill>
                  <a:srgbClr val="ffffcc"/>
                </a:solidFill>
                <a:latin typeface="Times New Roman"/>
              </a:rPr>
              <a:t> – Another neighbor of Christopher’s who, she is an older women who tries to befriend Christoph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Wellington</a:t>
            </a:r>
            <a:r>
              <a:rPr b="0" lang="en-US" sz="3200" spc="-1" strike="noStrike">
                <a:solidFill>
                  <a:srgbClr val="ffffcc"/>
                </a:solidFill>
                <a:latin typeface="Times New Roman"/>
              </a:rPr>
              <a:t> – A larger poodle with black fur owned by Eileen Shears, found dead at the start of the nove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racter Description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Siobhan</a:t>
            </a:r>
            <a:r>
              <a:rPr b="0" lang="en-US" sz="3200" spc="-1" strike="noStrike">
                <a:solidFill>
                  <a:srgbClr val="ffffcc"/>
                </a:solidFill>
                <a:latin typeface="Times New Roman"/>
              </a:rPr>
              <a:t> – Christopher’s main teacher since he was twelv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Roger Shears</a:t>
            </a:r>
            <a:r>
              <a:rPr b="0" lang="en-US" sz="3200" spc="-1" strike="noStrike">
                <a:solidFill>
                  <a:srgbClr val="ffffcc"/>
                </a:solidFill>
                <a:latin typeface="Times New Roman"/>
              </a:rPr>
              <a:t> – Former husband of Eileen Shears, a banker who moved to London to be with Christopher’s moth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does Christopher think some days are good and some days are “black”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ould figure this out while he was going to school.  If he saw 4 red cars in a row, it is a good day, and 4 yellow cars in a row, it would be a black da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did Christopher want to return to Swindon after finding his mom in Lond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anted to take his A level math tes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7:06:57Z</dcterms:created>
  <dc:creator>DU</dc:creator>
  <dc:description/>
  <dc:language>en-US</dc:language>
  <cp:lastModifiedBy>DU</cp:lastModifiedBy>
  <dcterms:modified xsi:type="dcterms:W3CDTF">2006-10-10T17:15:50Z</dcterms:modified>
  <cp:revision>2</cp:revision>
  <dc:subject/>
  <dc:title>The Curious Incident of the Dog in the Night-Time</dc:title>
</cp:coreProperties>
</file>